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F9A0-A2F1-4575-A932-8753C01CF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09D3-7F20-4610-8263-F7695267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1BA7-6127-4D17-AA95-6FBC8D2C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01CE-8E2D-437B-B256-CA487E60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F012-4769-49FA-8895-91A0FA0E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0D26-BD6B-4CF6-8720-45007703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ABFE-F270-4D93-9EFA-B5416D2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5F808-9C41-4BB6-8EF6-DEB5030DE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F4520-6F8E-4DE7-B7C3-3B31D3A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5D33D-801D-4ECA-A2A5-87EF4EF6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95632-64D0-47B6-AFF3-95EF43C3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0C02C-178A-4D7A-81EB-EA2BFAD5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16C27-0992-419B-AB5E-A931DD6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D2848-5A11-478D-9D0A-330EEC9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D9C8-489A-4812-8182-73F59A8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0BB17-C0FA-482D-B75B-580123D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4A347-66E1-4BA2-BDE9-96C1AB6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7413E-28AD-442A-8779-422FAE1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F48AD-8C33-4CA6-88B7-667AD4A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7E366-978F-43E2-82AD-0DBBCB21E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E83D-EFBD-41D7-B75C-068AFEB21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829F-13BE-4C62-A5D3-1A094CD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91E2-0A42-4EF1-9D27-EF5678A4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13E8-E4EE-477B-BDAA-AD82415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03C2-1F51-4918-8C21-5EBCE78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0D9E-C604-4219-A233-FB404708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0440-6D1B-406F-B7BC-836DC76E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FE58-DB4D-4D01-AA26-5917BE29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F753-0E71-4426-8456-5B75549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2ABC-6F03-4112-B8CA-B08C787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9029-D09C-4039-9338-5FFA17D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2811-99FA-4C55-955E-CFBCA20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16CC-C79C-427C-A678-764FE371D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158FD-C000-4835-98C8-423BA43E7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67D6E-8C9E-451F-9E3C-FD940C1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CC7CB-0ED3-4C44-9D7A-7496E6D3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1082-645F-40FD-BB0C-409260B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991E3-60CA-45E6-B8E7-128BDB3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21571-7021-4EEF-9AC9-4BDCC203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8E4BD-A907-41F3-9F60-0EE85B33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79451-85D2-4049-BD96-DF6956E6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1E4C3-5335-4A1C-BDD3-417FA7B3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B4859-3645-4F74-8970-E4A661C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D23B9-3D9F-4A46-BF50-F04AB93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CE1E2-9893-4E68-BE91-2957855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70A5A-F80E-49B0-B23D-A1E7D760E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5F2F8-7E75-4B60-9462-6ED257288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FEE5-751F-44EB-879E-21A3C95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A415F-5DA4-4328-BCD4-91B9564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DA848-6154-416B-A03C-42DF7091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F4ED1D-AFA8-4FF8-8066-19D9D73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8D915-AC52-46A7-AD01-17A0E783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D5299-1268-41BA-86AA-2244AC0A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C29CD-9692-43FA-B47A-2B1B85BB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5C3957-CE80-4EB5-B668-B016AE6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E5CED-D6C6-4E43-8D52-FF8A6319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745B0-EB94-4932-A147-55C68B81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D1F1C-B65C-440C-BEB3-45D089A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D202-07D5-41F0-B2B2-1D680870D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DA243-1A15-4AC2-9151-B36FB6EAC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06CD-10A5-47BE-87BA-CC6283795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F51C-2395-4431-8FBB-097E0D1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C3CA-834B-4368-81F4-F6DAED87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CEAE-C59E-4D4B-BDEF-C1B84146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CA34-CCC0-45DB-8908-B863C941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1F96-8B85-499C-AF77-C9DFBC00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42B10-AEF3-4AD6-9545-097E4134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3F65-3C30-4E72-B536-612351F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F964-21D7-4A78-A816-AF167813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2FA08-3E5D-420B-B8F4-E755DF73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7A08-7728-4CB6-9DFD-FE1D297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2C0A-6925-4A9C-B795-0117ED0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C6AF-3C29-4F8A-A205-152FDF3E5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CF5DA-840D-400A-8CF8-31252E735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8B1E1-BB88-4D4C-A709-968F21A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15919-A56A-4978-BB22-737F93E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375E5-4C08-47C4-900F-B20D7079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813AE-5C54-456A-A446-B06ABF3D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1AB80-3B44-4E37-99BE-F50CC18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2B32F-5EDF-444B-A8BA-6FE031C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42D7-B9BC-4CF2-AF88-CE0E7E20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6B945-98EC-45A3-B59E-80D5631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A8749-F779-49D2-BE2A-4A93A9B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E5B97-9749-4AA7-AACC-EDD1A54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E99BA-4896-45D1-89E6-E0601CF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B0492-46FE-4059-9033-30453F146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566A9-B204-4C2A-A474-284DEA1BD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27C587-5866-48EA-BE0A-E583219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94D3F-AE8C-44CA-B2DA-6557DE2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4B215-5B1C-4A16-B904-877FD12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2CB6C-3886-46B8-B98F-51EE268D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51AD6-5A35-4B22-992A-68E33B8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DA1179-8CF3-44A6-834A-F759AF3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0B28D-8A17-4EEB-9E93-53592E6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6CA80-9370-4BA6-94A9-F206D04B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9CF1E0-C97E-40F9-B79C-3CC53EA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600FD-B8AC-492E-BC81-BC628C4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F8B4DC-4180-4C3E-9ECF-E330D4C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8DA71-26F6-4042-A253-503864086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921A-8D0F-433B-8058-F34B97509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D1F0-EE04-4D0C-9089-DE008EE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E817D-508B-44E6-B55D-B88ECAB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9902-AE53-426B-9ECD-9220D74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E9689-25D5-4966-9CF7-84D41AC1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3EFB-8079-45CF-BB93-08AD35CE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41E3-CDAE-40D4-BDC2-A71C5F6A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0FDD-E52D-425E-9A79-ACA9110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E5A6-6091-4A2E-9F4B-E8901B0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C22F-00B3-4144-A592-646B533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8E0E-E599-411D-8EAC-9DBA76B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0FE6-F1D8-4C35-B5F6-574AD47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FFA1-8884-4001-BB31-055AE6C08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630507-77FF-4735-AC55-FABC922AE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96EC-64D8-449F-B5FF-6B5E91E5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E4AF8-2D3D-4D47-85EB-5F45944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9D2C1-F066-4CAF-BE36-1016BDF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FA0BA-5729-45AF-B6DF-747423A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CF4E4-E6C5-4888-8885-1327ADC9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E0DF7A-6E3D-42E6-A1D0-AD3C5145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1B1C0-AB24-4D2F-A606-9A05874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54A13-659F-4031-A5A1-4EE7F73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EE4C7F-FE65-4982-B3FF-092EDCB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3E1B9-1AB8-42DB-88EE-B51C5BD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06CEB-D36D-4C38-B039-9CA879C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79AA-B556-4327-A110-ADEC4CB2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11992-0077-4BD6-9802-23FD52028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77CE0-B326-4E18-8236-76F6464DC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9A516-66E4-4684-8600-4E31FFD9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407DB-F574-4A37-B512-F0248044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7AFCB-81D5-4E75-8CD1-EC034E9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A898A-C2CA-4888-A894-1F831F4A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8BAE0-173F-456C-B97E-400B2F5F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C84F5-A383-4B24-937B-A00DB52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48429-3F18-4478-A0AF-7C645BA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DFEF2-7545-4CE4-B05F-C69F49B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A37C-270A-401F-AB1D-C075D73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EF483-6215-4FFC-95AF-4A7B78C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523C4-EDC4-4F2D-A583-41C9128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C55FE-66B3-448C-88AD-A4E9813D0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16AE-16C4-4F45-9D79-18DF01BAE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AD9D-11F0-4851-8CF9-DC36A84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2DDF-49DD-4BED-BDB3-65D6AB1A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59627-F9B6-4E15-9A5C-74BD4B7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2866-E29D-4591-8166-3F504537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5C69F-0DD0-411E-9F84-7DD9704A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1920-D222-4300-B2AD-73F07D7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BFC2A-51E9-4021-A5B9-C5AF25D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4BC90-09B6-42D7-BA40-2EEBC71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597E6-17FC-422C-AC13-27F44524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BADEF-D3AF-45BC-ABBB-51D14EC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0EE2E-2E9F-4A4A-8BFD-41FF8D8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4C30A-9329-4200-87A1-2382FD6B2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CDC10-BC07-46D5-835B-840841C2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73F98-6DB9-495A-9015-A3CC155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BCA0-2367-44C2-836E-2F9DD0F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045FB-4ADF-454C-9705-E046097D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8ED24-870D-4EEE-AB06-AAA12FBE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D21A0-A431-43B0-9C0A-47B35BD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4D93C-28F9-40B3-8D81-826E06B1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FC0EA-63FF-42FF-BF8C-EDDD17F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21280-E81A-4840-9610-823EAF5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E98F-B4E0-491B-A4B0-64CF526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52D3B-50C6-4761-842F-BF02D8A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697C0-0CA1-402F-A302-9384D4C4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07C76-1A8F-47E9-9E93-A7E6A1BF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74EE5-3DB3-4911-9F5C-FF6857D4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08369-E256-45A6-B951-03D4EA6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23C6B-83D6-485A-9DBB-072D85BC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7C109-428B-4338-8DC9-170983F7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A07C-BA0E-4FC9-8379-70843A0E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18CA-1B36-4E39-87BF-D173DBB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278D7-554A-41E4-A1F9-D3E0BA3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F185-FE56-4A21-9211-17B59E9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D874C-E15D-42DD-985C-CC4F413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C026E-FF98-4787-BE4F-FDAB7AB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ACD85-7844-4A81-A81F-2CA1F9A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59F6-BFFD-4BB7-8DA3-C9682F60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7970-BED2-4754-9C3B-0CD07B77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8C12-648F-499F-8C8E-F2D0BA41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45742-C45B-4246-8934-4E8023A7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4D24A-8FD3-47AF-8302-A265ACD8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6EABB-25DD-4059-A907-07D225F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6EAAB-B065-4A53-A2C1-F44B3935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39230-B3B6-4BA7-A687-06030AAA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4A01A-A30C-4139-9B55-8FA92E3E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D1C56-5363-45C2-8CC4-47A0FE2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A0B8-EB21-4721-8FB4-56AEE09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27C7E-AE78-4CB2-B96F-E88A646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9003-772D-4CC7-AC82-1F96D09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B0A31-7366-4297-A6BA-B60E957B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EB42C-6B03-4AB8-BA60-66ADE4C8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D31AA-F40D-4844-9241-3C2B08A3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78240-DDAC-4063-A953-E5774BA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BA36F-82EE-4432-90EA-DEED63C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4628F-1B35-43A6-AFFC-4527B11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10275-DE34-4718-9C9F-5E1124E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4E61E-37B7-4074-B451-97A05F2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38E57-1EFA-47CB-8AAF-53CF791A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57234-86B2-4BAA-83C1-8B5AE58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E2BE5-3505-4539-8303-586967A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E375C-AD0F-446C-AD29-0B2044BC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0C399-A292-434C-ABD8-B8B0884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F15C9-E08C-4664-BA2A-9375C6B9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676BD-E14B-49F0-8362-ED68D62B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FB97D-CDC5-483C-8499-2D960344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475E7-10F8-44E4-A74B-EF4F065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3F2FD-5B7B-41B6-BE98-069B84E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1FDBE-AB6C-4D6F-8E5C-E3CB5EA6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D641F-7395-405F-BD40-D6BB5516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87115-6E8E-4C4E-8857-A7EE28F3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7B61-06E9-47C5-8DF8-DAA6E89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456D2-D071-4243-9E73-7055A4A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D9F3F-B567-4405-8274-876DF12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EEDF5-2B3C-4303-A5CB-358C744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233F5-0BAB-4D51-9F98-8B5A82B4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477CF-A06C-4E25-892D-D956846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D0DDC-0DBD-4668-B804-73AE957F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CC56C-69CA-420F-ACD3-6368942F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5A736-3771-4743-81CC-94F752D5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83F94-6160-4850-8B80-394877E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8CF35-D080-49AC-8514-19887BFD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4EC04-DE38-47F6-B4BE-66DB169E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26BC4-0E6C-49FE-AC52-B9BC06D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C6908-28B5-45D0-9607-08E7471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931BB-FCB4-4B0F-8362-341E654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C88BC-30FA-45C3-BDEC-89939CB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EF8AE-B4C2-4246-A4B5-A0E5F8BF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02FBA-887D-4981-9421-DBCEDCAA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FCC44-8754-4175-B01D-203BC0D5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C7DF5-31C8-434B-99D5-16B5F70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3D75F-2864-4F45-93E5-51D99C7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62276-7CC1-4450-9B75-892CE859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BC476-EB26-44A0-9058-5A85BB16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8AFAF-19D6-4F63-A688-19E907A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14230-9B86-4F54-A905-6A1813A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CA159-ACFF-46F2-8D8E-32A110F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38C00-E953-43C3-909B-F02E5F3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C2A71-75AA-469B-8B59-6788FBC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8B8CF-7644-4AFA-B1DF-4444FBE3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F306F-E20C-4AFE-A8E6-5C7E55B4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EFC7A-969C-44D0-82C1-364C1DCB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3F341-AE5A-49A5-A9D0-A2AC87C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49AEF-02D3-45E8-B065-21418838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37B65-8CEE-4F9E-BDB0-B594CB74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CED74-0687-4033-9E36-5444AEA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8C363-0A5D-42F4-BA22-CAB1A33C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A4C8D-5305-4120-9420-16F3AB3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2D94B-2F5D-4492-ADF6-EB61136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8A546-22B1-4756-BF4B-E1C10B2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B0249-74D8-4476-B8CD-603A604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6FB6E-C15D-4B59-9542-818FFB30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ACF9C-CF5C-482D-BC02-7A8DD90F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814BAE-9B6F-4B1B-9619-4DEA7370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979E1-31EC-46DC-9D48-7AA0671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29B3A-6342-48B3-A238-03549241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50292-3C8F-43D5-B0BB-3D2F597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D758B-42B3-4610-AD8B-20AF5AD6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13B27-34A2-48B9-A6D2-11D28C90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91182-C8BF-4EDD-8D17-AF0B0B4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FDB863-BB38-43AE-A2CE-372806A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FF8FA-5E00-451D-8D1E-438048A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F08EE-6E7D-4EE0-A1F6-725F331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82113-F9E6-4C16-AA82-DD540CAA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443A9-8795-42E5-BA4B-BCC8ACCA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191C3-70C6-4FD7-A912-12DD1FDE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F5F87-B25C-4A05-A30E-833D813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0BADD-5276-476F-AEFA-2F28D6A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14E69-CE13-4196-BA6F-8DD75ED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F7AF0-B6FD-4415-99CB-FCE12238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9C44D-A98F-44A2-8309-FCDF57E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83D61-2BED-4AFE-B8BA-E823FF5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7261E-D1B5-4064-BEA6-F2399AD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FDB88-8904-4C42-AF86-245029C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A8A2C-1A76-4000-8440-F14646B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A9F4A-9AE3-42D3-9012-CBB3011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D6984-B90E-40BA-A3F9-883D16BD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DD370-E21E-41FE-AF0A-E752C4CB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2ABA6-69A1-4B4B-A2DC-8E4A50C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5DB50-F31E-41F4-9B06-8F2C53C7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E7AF0-48D8-41BC-B511-C3CC29C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3DAAB-B663-4214-870F-C73836AB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F600E-5776-46C3-B884-CA224B2F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11D9D-A359-4576-B8CE-B0682E5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DBCD4-9742-4F20-81F6-0B548A4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BFB72-E625-48CF-A8CA-CD42470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7F88F-65A0-4D89-A8D8-5026CA2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27153-7F27-41C6-A145-30064CB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86F8D-BD24-401D-B78A-21B5C0FB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3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4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5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6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7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CCB1-E0E9-4855-B232-B86E2C67B2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067-7A9E-45EB-AF5C-2C44DCE0878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31C3-4B9D-4DE9-8859-D4FBFA43063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76CD-8152-423B-8BD9-EEB9E06D7C6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677-E0F1-4B28-A3A9-A827806A904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C030-8E49-4FD9-B526-2A54A65B641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4A2-89DE-4085-87A6-F8C3A76546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163-40CF-4263-A018-25CFA6E85B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BBD-98C0-48D4-B2DA-A9854BBFF4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5A48-03A1-4F0A-A885-7D4DC73CB6B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0586-91F2-443D-B62E-F0AB06715C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C5DB-23D9-426E-8B91-3FB830CC0E5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2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10D-E002-47C8-ACFB-22C9EE364A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3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3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0D8-C996-427E-9143-FCDD1997E5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8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88D-A9F7-4AD8-9B4F-88DF299569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3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A3FD-F93A-415B-9448-5F5A2EB635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3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3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3BA-B5B2-474B-A4C7-8DC10B82E0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4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84A-8A55-4EBC-94E2-EC1F517D17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4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4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E700-DDB0-429F-8774-75D263B154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4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A0E-A2AB-40E7-A6C5-568CE77128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4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5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88F-8DB8-4F78-AE4C-F36E10DFEF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7708-500A-4104-9075-D1A84DA84F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1387-E6D9-4212-8870-E4E0DEF645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9BE4-3CD5-480D-9539-9963D7E5FE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图片 368689" descr=""/>
          <p:cNvPicPr/>
          <p:nvPr/>
        </p:nvPicPr>
        <p:blipFill>
          <a:blip r:embed="rId1"/>
          <a:stretch/>
        </p:blipFill>
        <p:spPr>
          <a:xfrm>
            <a:off x="938160" y="2550960"/>
            <a:ext cx="726912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1893" name="图片 1239061" descr=""/>
          <p:cNvPicPr/>
          <p:nvPr/>
        </p:nvPicPr>
        <p:blipFill>
          <a:blip r:embed="rId2"/>
          <a:stretch/>
        </p:blipFill>
        <p:spPr>
          <a:xfrm>
            <a:off x="1695600" y="1500120"/>
            <a:ext cx="5270400" cy="3845160"/>
          </a:xfrm>
          <a:prstGeom prst="rect">
            <a:avLst/>
          </a:prstGeom>
          <a:ln w="0">
            <a:noFill/>
          </a:ln>
        </p:spPr>
      </p:pic>
      <p:sp>
        <p:nvSpPr>
          <p:cNvPr id="1894" name="矩形 1239062"/>
          <p:cNvSpPr/>
          <p:nvPr/>
        </p:nvSpPr>
        <p:spPr>
          <a:xfrm>
            <a:off x="3670200" y="30146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5" name="矩形 1239063"/>
          <p:cNvSpPr/>
          <p:nvPr/>
        </p:nvSpPr>
        <p:spPr>
          <a:xfrm>
            <a:off x="5283360" y="3002040"/>
            <a:ext cx="1490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6" name="矩形 1239064"/>
          <p:cNvSpPr/>
          <p:nvPr/>
        </p:nvSpPr>
        <p:spPr>
          <a:xfrm>
            <a:off x="3708360" y="38019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7" name="矩形 1239065"/>
          <p:cNvSpPr/>
          <p:nvPr/>
        </p:nvSpPr>
        <p:spPr>
          <a:xfrm>
            <a:off x="5257800" y="382752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8" name="矩形 1239066"/>
          <p:cNvSpPr/>
          <p:nvPr/>
        </p:nvSpPr>
        <p:spPr>
          <a:xfrm>
            <a:off x="3670200" y="46148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9" name="矩形 1239067"/>
          <p:cNvSpPr/>
          <p:nvPr/>
        </p:nvSpPr>
        <p:spPr>
          <a:xfrm>
            <a:off x="5283360" y="4653000"/>
            <a:ext cx="1490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0" name="图片 1248261" descr=""/>
          <p:cNvPicPr/>
          <p:nvPr/>
        </p:nvPicPr>
        <p:blipFill>
          <a:blip r:embed="rId1"/>
          <a:stretch/>
        </p:blipFill>
        <p:spPr>
          <a:xfrm>
            <a:off x="1101600" y="1655640"/>
            <a:ext cx="6942240" cy="2400480"/>
          </a:xfrm>
          <a:prstGeom prst="rect">
            <a:avLst/>
          </a:prstGeom>
          <a:ln w="0">
            <a:noFill/>
          </a:ln>
        </p:spPr>
      </p:pic>
      <p:sp>
        <p:nvSpPr>
          <p:cNvPr id="1901" name="矩形 1248262"/>
          <p:cNvSpPr/>
          <p:nvPr/>
        </p:nvSpPr>
        <p:spPr>
          <a:xfrm>
            <a:off x="2311560" y="2163600"/>
            <a:ext cx="9190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2" name="矩形 1248263"/>
          <p:cNvSpPr/>
          <p:nvPr/>
        </p:nvSpPr>
        <p:spPr>
          <a:xfrm>
            <a:off x="4356000" y="2125800"/>
            <a:ext cx="91944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3" name="矩形 1248264"/>
          <p:cNvSpPr/>
          <p:nvPr/>
        </p:nvSpPr>
        <p:spPr>
          <a:xfrm>
            <a:off x="6972480" y="221472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4" name="矩形 1248265"/>
          <p:cNvSpPr/>
          <p:nvPr/>
        </p:nvSpPr>
        <p:spPr>
          <a:xfrm>
            <a:off x="2298600" y="2773440"/>
            <a:ext cx="91944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5" name="矩形 1248266"/>
          <p:cNvSpPr/>
          <p:nvPr/>
        </p:nvSpPr>
        <p:spPr>
          <a:xfrm>
            <a:off x="4368960" y="278604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6" name="矩形 1248267"/>
          <p:cNvSpPr/>
          <p:nvPr/>
        </p:nvSpPr>
        <p:spPr>
          <a:xfrm>
            <a:off x="7137360" y="2836800"/>
            <a:ext cx="9190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7" name="矩形 1248268"/>
          <p:cNvSpPr/>
          <p:nvPr/>
        </p:nvSpPr>
        <p:spPr>
          <a:xfrm>
            <a:off x="2463840" y="347184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8" name="矩形 1248269"/>
          <p:cNvSpPr/>
          <p:nvPr/>
        </p:nvSpPr>
        <p:spPr>
          <a:xfrm>
            <a:off x="4610160" y="3395520"/>
            <a:ext cx="13636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9" name="矩形 1248270"/>
          <p:cNvSpPr/>
          <p:nvPr/>
        </p:nvSpPr>
        <p:spPr>
          <a:xfrm>
            <a:off x="7124760" y="3433680"/>
            <a:ext cx="13636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0" name="图片 1244164" descr=""/>
          <p:cNvPicPr/>
          <p:nvPr/>
        </p:nvPicPr>
        <p:blipFill>
          <a:blip r:embed="rId1"/>
          <a:stretch/>
        </p:blipFill>
        <p:spPr>
          <a:xfrm>
            <a:off x="1386000" y="1351080"/>
            <a:ext cx="6373800" cy="3009960"/>
          </a:xfrm>
          <a:prstGeom prst="rect">
            <a:avLst/>
          </a:prstGeom>
          <a:ln w="0">
            <a:noFill/>
          </a:ln>
        </p:spPr>
      </p:pic>
      <p:sp>
        <p:nvSpPr>
          <p:cNvPr id="1911" name="矩形 1244165"/>
          <p:cNvSpPr/>
          <p:nvPr/>
        </p:nvSpPr>
        <p:spPr>
          <a:xfrm>
            <a:off x="2793960" y="311616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2" name="矩形 1244166"/>
          <p:cNvSpPr/>
          <p:nvPr/>
        </p:nvSpPr>
        <p:spPr>
          <a:xfrm>
            <a:off x="6184800" y="307800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3" name="矩形 1244167"/>
          <p:cNvSpPr/>
          <p:nvPr/>
        </p:nvSpPr>
        <p:spPr>
          <a:xfrm>
            <a:off x="2832120" y="3738600"/>
            <a:ext cx="9828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4" name="矩形 1244168"/>
          <p:cNvSpPr/>
          <p:nvPr/>
        </p:nvSpPr>
        <p:spPr>
          <a:xfrm>
            <a:off x="6121440" y="376380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图片 1247238" descr=""/>
          <p:cNvPicPr/>
          <p:nvPr/>
        </p:nvPicPr>
        <p:blipFill>
          <a:blip r:embed="rId1"/>
          <a:stretch/>
        </p:blipFill>
        <p:spPr>
          <a:xfrm>
            <a:off x="1866960" y="1351080"/>
            <a:ext cx="5410080" cy="3009960"/>
          </a:xfrm>
          <a:prstGeom prst="rect">
            <a:avLst/>
          </a:prstGeom>
          <a:ln w="0">
            <a:noFill/>
          </a:ln>
        </p:spPr>
      </p:pic>
      <p:sp>
        <p:nvSpPr>
          <p:cNvPr id="1916" name="矩形 1247239"/>
          <p:cNvSpPr/>
          <p:nvPr/>
        </p:nvSpPr>
        <p:spPr>
          <a:xfrm>
            <a:off x="3797280" y="1960560"/>
            <a:ext cx="716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7" name="矩形 1247240"/>
          <p:cNvSpPr/>
          <p:nvPr/>
        </p:nvSpPr>
        <p:spPr>
          <a:xfrm>
            <a:off x="3936960" y="2608200"/>
            <a:ext cx="716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8" name="矩形 1247241"/>
          <p:cNvSpPr/>
          <p:nvPr/>
        </p:nvSpPr>
        <p:spPr>
          <a:xfrm>
            <a:off x="4127400" y="3243240"/>
            <a:ext cx="8683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9" name="矩形 1247242"/>
          <p:cNvSpPr/>
          <p:nvPr/>
        </p:nvSpPr>
        <p:spPr>
          <a:xfrm>
            <a:off x="4305240" y="3865680"/>
            <a:ext cx="10461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0" name="图片 1246215" descr=""/>
          <p:cNvPicPr/>
          <p:nvPr/>
        </p:nvPicPr>
        <p:blipFill>
          <a:blip r:embed="rId1"/>
          <a:stretch/>
        </p:blipFill>
        <p:spPr>
          <a:xfrm>
            <a:off x="1571760" y="1279440"/>
            <a:ext cx="6002280" cy="3152880"/>
          </a:xfrm>
          <a:prstGeom prst="rect">
            <a:avLst/>
          </a:prstGeom>
          <a:ln w="0">
            <a:noFill/>
          </a:ln>
        </p:spPr>
      </p:pic>
      <p:sp>
        <p:nvSpPr>
          <p:cNvPr id="1921" name="矩形 1246216"/>
          <p:cNvSpPr/>
          <p:nvPr/>
        </p:nvSpPr>
        <p:spPr>
          <a:xfrm>
            <a:off x="3898800" y="1897200"/>
            <a:ext cx="1363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2" name="矩形 1246217"/>
          <p:cNvSpPr/>
          <p:nvPr/>
        </p:nvSpPr>
        <p:spPr>
          <a:xfrm>
            <a:off x="4114800" y="2506680"/>
            <a:ext cx="1427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3" name="矩形 1246218"/>
          <p:cNvSpPr/>
          <p:nvPr/>
        </p:nvSpPr>
        <p:spPr>
          <a:xfrm>
            <a:off x="4317840" y="3154320"/>
            <a:ext cx="1592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4" name="矩形 1246219"/>
          <p:cNvSpPr/>
          <p:nvPr/>
        </p:nvSpPr>
        <p:spPr>
          <a:xfrm>
            <a:off x="4508640" y="3789360"/>
            <a:ext cx="1592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图片 1245191" descr=""/>
          <p:cNvPicPr/>
          <p:nvPr/>
        </p:nvPicPr>
        <p:blipFill>
          <a:blip r:embed="rId1"/>
          <a:stretch/>
        </p:blipFill>
        <p:spPr>
          <a:xfrm>
            <a:off x="1173240" y="1398600"/>
            <a:ext cx="6799320" cy="2914560"/>
          </a:xfrm>
          <a:prstGeom prst="rect">
            <a:avLst/>
          </a:prstGeom>
          <a:ln w="0">
            <a:noFill/>
          </a:ln>
        </p:spPr>
      </p:pic>
      <p:sp>
        <p:nvSpPr>
          <p:cNvPr id="1926" name="矩形 1245192"/>
          <p:cNvSpPr/>
          <p:nvPr/>
        </p:nvSpPr>
        <p:spPr>
          <a:xfrm>
            <a:off x="4673520" y="2671920"/>
            <a:ext cx="1096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7" name="矩形 1245193"/>
          <p:cNvSpPr/>
          <p:nvPr/>
        </p:nvSpPr>
        <p:spPr>
          <a:xfrm>
            <a:off x="6273720" y="2684520"/>
            <a:ext cx="122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8" name="矩形 1245194"/>
          <p:cNvSpPr/>
          <p:nvPr/>
        </p:nvSpPr>
        <p:spPr>
          <a:xfrm>
            <a:off x="3632040" y="3255840"/>
            <a:ext cx="44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9" name="矩形 1245195"/>
          <p:cNvSpPr/>
          <p:nvPr/>
        </p:nvSpPr>
        <p:spPr>
          <a:xfrm>
            <a:off x="4826160" y="3268800"/>
            <a:ext cx="6778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0" name="矩形 1245196"/>
          <p:cNvSpPr/>
          <p:nvPr/>
        </p:nvSpPr>
        <p:spPr>
          <a:xfrm>
            <a:off x="4470480" y="3878280"/>
            <a:ext cx="1020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1" name="矩形 1245197"/>
          <p:cNvSpPr/>
          <p:nvPr/>
        </p:nvSpPr>
        <p:spPr>
          <a:xfrm>
            <a:off x="6197760" y="3865680"/>
            <a:ext cx="12747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图片 1243139" descr=""/>
          <p:cNvPicPr/>
          <p:nvPr/>
        </p:nvPicPr>
        <p:blipFill>
          <a:blip r:embed="rId1"/>
          <a:stretch/>
        </p:blipFill>
        <p:spPr>
          <a:xfrm>
            <a:off x="1108080" y="669960"/>
            <a:ext cx="6904080" cy="4829040"/>
          </a:xfrm>
          <a:prstGeom prst="rect">
            <a:avLst/>
          </a:prstGeom>
          <a:ln w="0">
            <a:noFill/>
          </a:ln>
        </p:spPr>
      </p:pic>
      <p:sp>
        <p:nvSpPr>
          <p:cNvPr id="1933" name="矩形 1243140"/>
          <p:cNvSpPr/>
          <p:nvPr/>
        </p:nvSpPr>
        <p:spPr>
          <a:xfrm>
            <a:off x="2476440" y="17445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4" name="矩形 1243141"/>
          <p:cNvSpPr/>
          <p:nvPr/>
        </p:nvSpPr>
        <p:spPr>
          <a:xfrm>
            <a:off x="2984400" y="23796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5" name="矩形 1243142"/>
          <p:cNvSpPr/>
          <p:nvPr/>
        </p:nvSpPr>
        <p:spPr>
          <a:xfrm>
            <a:off x="3327480" y="30146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6" name="矩形 1243143"/>
          <p:cNvSpPr/>
          <p:nvPr/>
        </p:nvSpPr>
        <p:spPr>
          <a:xfrm>
            <a:off x="3657600" y="363708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7" name="矩形 1243144"/>
          <p:cNvSpPr/>
          <p:nvPr/>
        </p:nvSpPr>
        <p:spPr>
          <a:xfrm>
            <a:off x="4000680" y="4284720"/>
            <a:ext cx="18460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8" name="矩形 1243145"/>
          <p:cNvSpPr/>
          <p:nvPr/>
        </p:nvSpPr>
        <p:spPr>
          <a:xfrm>
            <a:off x="4317840" y="493236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图片 1259522" descr=""/>
          <p:cNvPicPr/>
          <p:nvPr/>
        </p:nvPicPr>
        <p:blipFill>
          <a:blip r:embed="rId1"/>
          <a:stretch/>
        </p:blipFill>
        <p:spPr>
          <a:xfrm>
            <a:off x="1638360" y="1050840"/>
            <a:ext cx="5486400" cy="3610080"/>
          </a:xfrm>
          <a:prstGeom prst="rect">
            <a:avLst/>
          </a:prstGeom>
          <a:ln w="0">
            <a:noFill/>
          </a:ln>
        </p:spPr>
      </p:pic>
      <p:sp>
        <p:nvSpPr>
          <p:cNvPr id="1940" name="矩形 1259523"/>
          <p:cNvSpPr/>
          <p:nvPr/>
        </p:nvSpPr>
        <p:spPr>
          <a:xfrm>
            <a:off x="3695760" y="154152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1" name="矩形 1259524"/>
          <p:cNvSpPr/>
          <p:nvPr/>
        </p:nvSpPr>
        <p:spPr>
          <a:xfrm>
            <a:off x="4191120" y="213840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2" name="矩形 1259525"/>
          <p:cNvSpPr/>
          <p:nvPr/>
        </p:nvSpPr>
        <p:spPr>
          <a:xfrm>
            <a:off x="4686480" y="2798640"/>
            <a:ext cx="2354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3" name="矩形 1259526"/>
          <p:cNvSpPr/>
          <p:nvPr/>
        </p:nvSpPr>
        <p:spPr>
          <a:xfrm>
            <a:off x="5219640" y="343368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4" name="矩形 1259527"/>
          <p:cNvSpPr/>
          <p:nvPr/>
        </p:nvSpPr>
        <p:spPr>
          <a:xfrm>
            <a:off x="5715000" y="406872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图片 1260545" descr=""/>
          <p:cNvPicPr/>
          <p:nvPr/>
        </p:nvPicPr>
        <p:blipFill>
          <a:blip r:embed="rId1"/>
          <a:stretch/>
        </p:blipFill>
        <p:spPr>
          <a:xfrm>
            <a:off x="1414440" y="803160"/>
            <a:ext cx="6137280" cy="4626000"/>
          </a:xfrm>
          <a:prstGeom prst="rect">
            <a:avLst/>
          </a:prstGeom>
          <a:ln w="0">
            <a:noFill/>
          </a:ln>
        </p:spPr>
      </p:pic>
      <p:sp>
        <p:nvSpPr>
          <p:cNvPr id="1946" name="矩形 1260546"/>
          <p:cNvSpPr/>
          <p:nvPr/>
        </p:nvSpPr>
        <p:spPr>
          <a:xfrm>
            <a:off x="3238560" y="231624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7" name="矩形 1260547"/>
          <p:cNvSpPr/>
          <p:nvPr/>
        </p:nvSpPr>
        <p:spPr>
          <a:xfrm>
            <a:off x="3378240" y="2824200"/>
            <a:ext cx="2354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8" name="矩形 1260548"/>
          <p:cNvSpPr/>
          <p:nvPr/>
        </p:nvSpPr>
        <p:spPr>
          <a:xfrm>
            <a:off x="3517920" y="334476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9" name="矩形 1260549"/>
          <p:cNvSpPr/>
          <p:nvPr/>
        </p:nvSpPr>
        <p:spPr>
          <a:xfrm>
            <a:off x="3670200" y="384012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0" name="矩形 1260550"/>
          <p:cNvSpPr/>
          <p:nvPr/>
        </p:nvSpPr>
        <p:spPr>
          <a:xfrm>
            <a:off x="1663560" y="4475160"/>
            <a:ext cx="3484800" cy="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1952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53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1859" name="图片 377065" descr=""/>
          <p:cNvPicPr/>
          <p:nvPr/>
        </p:nvPicPr>
        <p:blipFill>
          <a:blip r:embed="rId2"/>
          <a:stretch/>
        </p:blipFill>
        <p:spPr>
          <a:xfrm>
            <a:off x="260280" y="1639800"/>
            <a:ext cx="822636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图片 1240069" descr=""/>
          <p:cNvPicPr/>
          <p:nvPr/>
        </p:nvPicPr>
        <p:blipFill>
          <a:blip r:embed="rId1"/>
          <a:stretch/>
        </p:blipFill>
        <p:spPr>
          <a:xfrm>
            <a:off x="374760" y="1900080"/>
            <a:ext cx="839448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图片 1255426" descr=""/>
          <p:cNvPicPr/>
          <p:nvPr/>
        </p:nvPicPr>
        <p:blipFill>
          <a:blip r:embed="rId1"/>
          <a:stretch/>
        </p:blipFill>
        <p:spPr>
          <a:xfrm>
            <a:off x="871560" y="1736640"/>
            <a:ext cx="2724120" cy="1952640"/>
          </a:xfrm>
          <a:prstGeom prst="rect">
            <a:avLst/>
          </a:prstGeom>
          <a:ln w="0">
            <a:noFill/>
          </a:ln>
        </p:spPr>
      </p:pic>
      <p:pic>
        <p:nvPicPr>
          <p:cNvPr id="1862" name="图片 1255427" descr=""/>
          <p:cNvPicPr/>
          <p:nvPr/>
        </p:nvPicPr>
        <p:blipFill>
          <a:blip r:embed="rId2"/>
          <a:stretch/>
        </p:blipFill>
        <p:spPr>
          <a:xfrm>
            <a:off x="870120" y="1247760"/>
            <a:ext cx="5067000" cy="4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图片 1254402" descr=""/>
          <p:cNvPicPr/>
          <p:nvPr/>
        </p:nvPicPr>
        <p:blipFill>
          <a:blip r:embed="rId1"/>
          <a:stretch/>
        </p:blipFill>
        <p:spPr>
          <a:xfrm>
            <a:off x="909720" y="920880"/>
            <a:ext cx="6465960" cy="4143240"/>
          </a:xfrm>
          <a:prstGeom prst="rect">
            <a:avLst/>
          </a:prstGeom>
          <a:ln w="0">
            <a:noFill/>
          </a:ln>
        </p:spPr>
      </p:pic>
      <p:sp>
        <p:nvSpPr>
          <p:cNvPr id="1864" name="矩形 1254403"/>
          <p:cNvSpPr/>
          <p:nvPr/>
        </p:nvSpPr>
        <p:spPr>
          <a:xfrm>
            <a:off x="2222640" y="2379600"/>
            <a:ext cx="6778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5" name="矩形 1254404"/>
          <p:cNvSpPr/>
          <p:nvPr/>
        </p:nvSpPr>
        <p:spPr>
          <a:xfrm>
            <a:off x="2502000" y="2824200"/>
            <a:ext cx="6778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6" name="矩形 1254405"/>
          <p:cNvSpPr/>
          <p:nvPr/>
        </p:nvSpPr>
        <p:spPr>
          <a:xfrm>
            <a:off x="2666880" y="3243240"/>
            <a:ext cx="6778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7" name="矩形 1254406"/>
          <p:cNvSpPr/>
          <p:nvPr/>
        </p:nvSpPr>
        <p:spPr>
          <a:xfrm>
            <a:off x="2832120" y="3662280"/>
            <a:ext cx="8557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8" name="矩形 1254407"/>
          <p:cNvSpPr/>
          <p:nvPr/>
        </p:nvSpPr>
        <p:spPr>
          <a:xfrm>
            <a:off x="2997360" y="4132440"/>
            <a:ext cx="957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9" name="矩形 1254408"/>
          <p:cNvSpPr/>
          <p:nvPr/>
        </p:nvSpPr>
        <p:spPr>
          <a:xfrm>
            <a:off x="3149640" y="457668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图片 1253378" descr=""/>
          <p:cNvPicPr/>
          <p:nvPr/>
        </p:nvPicPr>
        <p:blipFill>
          <a:blip r:embed="rId1"/>
          <a:stretch/>
        </p:blipFill>
        <p:spPr>
          <a:xfrm>
            <a:off x="1604880" y="1022400"/>
            <a:ext cx="5935680" cy="3666960"/>
          </a:xfrm>
          <a:prstGeom prst="rect">
            <a:avLst/>
          </a:prstGeom>
          <a:ln w="0">
            <a:noFill/>
          </a:ln>
        </p:spPr>
      </p:pic>
      <p:sp>
        <p:nvSpPr>
          <p:cNvPr id="1871" name="矩形 1253379"/>
          <p:cNvSpPr/>
          <p:nvPr/>
        </p:nvSpPr>
        <p:spPr>
          <a:xfrm>
            <a:off x="2882880" y="19731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2" name="矩形 1253380"/>
          <p:cNvSpPr/>
          <p:nvPr/>
        </p:nvSpPr>
        <p:spPr>
          <a:xfrm>
            <a:off x="3035160" y="2468520"/>
            <a:ext cx="12369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3" name="矩形 1253381"/>
          <p:cNvSpPr/>
          <p:nvPr/>
        </p:nvSpPr>
        <p:spPr>
          <a:xfrm>
            <a:off x="3213000" y="28875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4" name="矩形 1253382"/>
          <p:cNvSpPr/>
          <p:nvPr/>
        </p:nvSpPr>
        <p:spPr>
          <a:xfrm>
            <a:off x="3365640" y="33321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5" name="矩形 1253383"/>
          <p:cNvSpPr/>
          <p:nvPr/>
        </p:nvSpPr>
        <p:spPr>
          <a:xfrm>
            <a:off x="3556080" y="376380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6" name="矩形 1253384"/>
          <p:cNvSpPr/>
          <p:nvPr/>
        </p:nvSpPr>
        <p:spPr>
          <a:xfrm>
            <a:off x="3720960" y="41702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230868" descr=""/>
          <p:cNvPicPr/>
          <p:nvPr/>
        </p:nvPicPr>
        <p:blipFill>
          <a:blip r:embed="rId2"/>
          <a:stretch/>
        </p:blipFill>
        <p:spPr>
          <a:xfrm>
            <a:off x="425520" y="3979800"/>
            <a:ext cx="5118120" cy="1308240"/>
          </a:xfrm>
          <a:prstGeom prst="rect">
            <a:avLst/>
          </a:prstGeom>
          <a:ln w="0">
            <a:noFill/>
          </a:ln>
        </p:spPr>
      </p:pic>
      <p:grpSp>
        <p:nvGrpSpPr>
          <p:cNvPr id="1879" name="组合 1230871"/>
          <p:cNvGrpSpPr/>
          <p:nvPr/>
        </p:nvGrpSpPr>
        <p:grpSpPr>
          <a:xfrm>
            <a:off x="351000" y="1765440"/>
            <a:ext cx="8391240" cy="2270160"/>
            <a:chOff x="351000" y="1765440"/>
            <a:chExt cx="8391240" cy="2270160"/>
          </a:xfrm>
        </p:grpSpPr>
        <p:pic>
          <p:nvPicPr>
            <p:cNvPr id="1880" name="图片 1230867" descr=""/>
            <p:cNvPicPr/>
            <p:nvPr/>
          </p:nvPicPr>
          <p:blipFill>
            <a:blip r:embed="rId3"/>
            <a:stretch/>
          </p:blipFill>
          <p:spPr>
            <a:xfrm>
              <a:off x="351000" y="1765440"/>
              <a:ext cx="839124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1" name="矩形 1230869"/>
            <p:cNvSpPr/>
            <p:nvPr/>
          </p:nvSpPr>
          <p:spPr>
            <a:xfrm>
              <a:off x="368280" y="3560760"/>
              <a:ext cx="149076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2986200" y="771480"/>
            <a:ext cx="2871720" cy="671400"/>
          </a:xfrm>
          <a:prstGeom prst="rect">
            <a:avLst/>
          </a:prstGeom>
          <a:ln w="0">
            <a:noFill/>
          </a:ln>
        </p:spPr>
      </p:pic>
      <p:pic>
        <p:nvPicPr>
          <p:cNvPr id="1883" name="图片 1238034" descr=""/>
          <p:cNvPicPr/>
          <p:nvPr/>
        </p:nvPicPr>
        <p:blipFill>
          <a:blip r:embed="rId2"/>
          <a:stretch/>
        </p:blipFill>
        <p:spPr>
          <a:xfrm>
            <a:off x="244440" y="1595520"/>
            <a:ext cx="8528040" cy="2444760"/>
          </a:xfrm>
          <a:prstGeom prst="rect">
            <a:avLst/>
          </a:prstGeom>
          <a:ln w="0">
            <a:noFill/>
          </a:ln>
        </p:spPr>
      </p:pic>
      <p:pic>
        <p:nvPicPr>
          <p:cNvPr id="1884" name="图片 1238035" descr=""/>
          <p:cNvPicPr/>
          <p:nvPr/>
        </p:nvPicPr>
        <p:blipFill>
          <a:blip r:embed="rId3"/>
          <a:stretch/>
        </p:blipFill>
        <p:spPr>
          <a:xfrm>
            <a:off x="574560" y="4280040"/>
            <a:ext cx="65851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图片 1256459" descr=""/>
          <p:cNvPicPr/>
          <p:nvPr/>
        </p:nvPicPr>
        <p:blipFill>
          <a:blip r:embed="rId1"/>
          <a:stretch/>
        </p:blipFill>
        <p:spPr>
          <a:xfrm>
            <a:off x="311040" y="1106640"/>
            <a:ext cx="8142480" cy="2685960"/>
          </a:xfrm>
          <a:prstGeom prst="rect">
            <a:avLst/>
          </a:prstGeom>
          <a:ln w="0">
            <a:noFill/>
          </a:ln>
        </p:spPr>
      </p:pic>
      <p:sp>
        <p:nvSpPr>
          <p:cNvPr id="1886" name="矩形 1256460"/>
          <p:cNvSpPr/>
          <p:nvPr/>
        </p:nvSpPr>
        <p:spPr>
          <a:xfrm>
            <a:off x="1892160" y="23922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7" name="矩形 1256461"/>
          <p:cNvSpPr/>
          <p:nvPr/>
        </p:nvSpPr>
        <p:spPr>
          <a:xfrm>
            <a:off x="2235240" y="28368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8" name="矩形 1256462"/>
          <p:cNvSpPr/>
          <p:nvPr/>
        </p:nvSpPr>
        <p:spPr>
          <a:xfrm>
            <a:off x="2438280" y="32558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9" name="矩形 1256463"/>
          <p:cNvSpPr/>
          <p:nvPr/>
        </p:nvSpPr>
        <p:spPr>
          <a:xfrm>
            <a:off x="6438960" y="24303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0" name="矩形 1256464"/>
          <p:cNvSpPr/>
          <p:nvPr/>
        </p:nvSpPr>
        <p:spPr>
          <a:xfrm>
            <a:off x="6705720" y="2849400"/>
            <a:ext cx="1490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1" name="矩形 1256465"/>
          <p:cNvSpPr/>
          <p:nvPr/>
        </p:nvSpPr>
        <p:spPr>
          <a:xfrm>
            <a:off x="6959520" y="328140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28:23Z</dcterms:created>
  <dc:creator/>
  <dc:description/>
  <dc:language>en-US</dc:language>
  <cp:lastModifiedBy>万润仪器贸易公司</cp:lastModifiedBy>
  <dcterms:modified xsi:type="dcterms:W3CDTF">2020-08-24T00:28:26Z</dcterms:modified>
  <cp:revision>13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